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A4D4-E7A2-46A8-BD23-099300DD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2616-46C4-450A-B19B-EA66BED1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F375-AF4F-465F-9AB1-87716343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E818-7EB0-435D-9A34-7CD1D113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39E-38DF-48A4-BF2B-23380970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CA52-78AA-4398-9819-9144DC14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05DA-74D3-4474-B556-01C00EAC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E019-91AC-4593-8C0A-7A0924BA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4955-8E6C-4F00-B3A7-A6A2189B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1F83-7284-4851-816F-8FCF5C1D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B030-B431-4743-AE42-5A2D7DCD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2345-A95F-4873-82D6-1A3769C3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52BF-7A9E-4EB5-A5A6-5E80C6E82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rse Management System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od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312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 Cu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3886200"/>
            <a:ext cx="3124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 Swee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ical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line Resourc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moodle.or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mood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monstra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98108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to the following webs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sw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rse Management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: Instructional tool that allows instructors, universities and corporations develop and support online edu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 WebTycho, WebCT, Blackboard and Moo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od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-source content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social constructiv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to Blackboard in market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odle: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 resources and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ther and review 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er quizzes and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 grades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odle: Techn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-based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remot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developed for Lin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s with most popular operating systems including Windows and OS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en-Source = F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3276720"/>
            <a:ext cx="32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rt o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9:06:19Z</dcterms:created>
  <dc:creator>Eugene Sweeney</dc:creator>
  <dc:description/>
  <dc:language>en-US</dc:language>
  <cp:lastModifiedBy>KASD KASD</cp:lastModifiedBy>
  <dcterms:modified xsi:type="dcterms:W3CDTF">2008-03-26T22:18:27Z</dcterms:modified>
  <cp:revision>6</cp:revision>
  <dc:subject/>
  <dc:title>Course Management System Moodle</dc:title>
</cp:coreProperties>
</file>